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.jpeg" ContentType="image/jpeg"/>
  <Override PartName="/ppt/media/image19.gif" ContentType="image/gif"/>
  <Override PartName="/ppt/media/image24.png" ContentType="image/png"/>
  <Override PartName="/ppt/media/image21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155541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C9E-263B-4EB5-861F-86EDCB5E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33C-A4AD-4F17-A97A-C227B531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6C193-AEB8-4FDD-9618-2242E7F5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44FE7-A2BE-4BE1-BBAF-B460E43B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F94F2-54B3-4984-89EB-D073515D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669ED-1861-4926-9727-29965A7D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D2CBC-17B5-49BF-A3CC-0768C684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F1AD8-B085-41C9-B9CE-E00D3F4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1D286-BF48-4C6A-B671-EE9B4509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39B5A-DA99-435D-96E0-463CB4B3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4DB5E-59F5-4A2D-9AFF-A9F3B5F4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E343D-B9C4-4FEA-A942-C9B75EA7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415-C37B-475E-8ACF-7F2CA9CB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53BD9-4C9B-43BA-B151-64F83FED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3142A-4DFB-418E-9866-2A53644F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33308-34F9-46F2-BCC6-38287B04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10722-C0F2-439A-B9EC-E2CDAEEE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35D63-8CD0-4144-A12B-52FC1126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738DD-37DA-4219-BEBC-96FB6623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CFC6D-6FD9-4AA1-A855-82B24ED9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E06CE-BD49-47DD-B0B3-DBF3C19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44485-6986-41BF-82AC-9EAD48BC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34276-3FFB-4B72-A96C-69B9645D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DD9-E33B-4496-A77B-323924B7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93CAE-BAFD-4DBB-A438-7AF7C26D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4B7D4-7D30-4D4D-BABD-6C3D7123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AEBD2-E20B-42C5-B296-4C2F3310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05A37-98A7-4378-B314-93A72FF3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47EA3-B06E-4315-BBC2-2AA06068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96F9A-ADBF-4338-A490-4084BA8D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94824-8FEB-4AD6-993B-D26E769A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2DCE3-9468-4483-8D25-945C6A4B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C7464-B86C-4CFD-97CA-021CC97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0E681-5251-43DB-88F5-4D95BAD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DEE1-5B20-4488-9231-60A77B77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1CA34-A342-4B16-9BD1-F244FEA1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7B446-6D86-4032-8FB3-974341B7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34B73-DCA6-4952-B6D0-9F49C878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52DDB-0512-4D71-9C41-7C4F1D5E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28285-EA73-4ED8-8826-FE06F397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37B92-BB9A-417C-AAAF-CC7359E7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136AF-0614-4825-B645-508F51F3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5B585-A22C-4818-9918-79836274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C5302-A3AF-4543-8F69-85B6A6FD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049BA-F5AF-4752-BC97-1880069A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97F8-D49C-43C2-B91B-12BD2533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A9A85-2CDB-43C2-A9C7-4F61AB0A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B0885-4763-4770-B7E0-48EAE578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5B2C4-1468-4C37-B9A4-598DFB05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7EADF-478A-48FE-8D5E-4284C638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E3DAC-3405-4BFB-90B8-7334E88C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65237-41E3-45E3-B076-B5ADDBBB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0A7A7-7583-49E5-A98C-6AF273DE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C42B1-9105-41BD-A469-3B851410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8BDAB-E11E-4E38-A285-6A020A3E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C2AEE-F58C-469E-B71E-3BA7F7CC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70CA-D212-4DB7-8766-A349BB3D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E8F66-78B5-4B97-A1C8-E13F468E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0EDF2-D4F1-4DEE-A5BB-E60C3905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FA75C-9A6E-4AE5-A1C3-4C22A5C1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B2F75-A545-4835-9505-AA7AC22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9DEDC-56BF-414F-9306-4A7B9F15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7A27E-FCAE-4765-B2FD-F77CF631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59047-2B06-4A58-9A91-36BC31C9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706F5-A3B8-4CB5-BE75-92744835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4BFC4-1CB2-46E9-8041-AC9CF7B9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04A20-B49E-4BBE-9E5F-2BB5137B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B92E-20F8-49B6-B761-B0F10AB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8CD7C-8716-4A36-B7F2-8354AE32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9F90E-1292-4E84-A532-10C77C5C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DE40D-1560-4331-88F4-0572868C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B0318-A007-45FD-BFC3-A50CE9A2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D8ACB-9123-4FA6-B354-C0009138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FDE6E-B4EA-43C1-9D55-F918C6ED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F2054-9060-478E-808F-41E0A2D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A31F2-5630-4906-98B3-E5C29F77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E198E-BCDF-41A4-A44A-60435709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E2E5-B584-4283-A34B-AF45AE57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FAAC-E2D9-4313-AD84-74C92FA9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0404-4362-47B6-B65C-0ED68D66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ACA-C5D5-4B7E-941C-93B5817F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295C-81F5-4DB3-8B7D-ED727928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782F-9477-4DFC-8EF2-C523C7BD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3F5D-3A7F-4B34-B3F5-768C24C4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1D92-F306-4455-84D3-689B325E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4561-DCBF-4BF0-B07B-86CEEFA0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9F33-24ED-42C5-AE0E-DC9044C2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CBDE-5C56-4583-9DA1-8E9FE3B9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0F96-0644-4A57-B3CD-467CBF90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E116-B153-4F8A-941A-47212F2D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45E2-5D45-4931-86E3-36E1F2FB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A1C-55DE-4C04-9D46-6EBC6160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5281-8661-44EB-991E-8D12CD2F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7E8E-0260-4FD7-B4F9-AE892C63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8F8F4-578C-43A4-8404-2B6E930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D086-7359-4CC9-9D36-B30E90FC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CA5C-BE71-49B2-A475-A07D3339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34F9-AC0B-4663-BE04-FF364F7E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19AEE-56E0-4A66-9330-E4010F5A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1F663-1B15-48BD-9EDF-7139A949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B38C-FC50-4698-8594-A965C9F9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E415-F7A6-4436-BC75-86C3C036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4D0-10F7-47C1-88DF-864AFC1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0441-E422-4522-8C68-1AAA30D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855AE-2219-4037-AAC5-365A728F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9D8FE-C643-416B-B0CF-D343F877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01E2-1BFF-40C7-A309-B84B6B31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0D1DA-68C9-4CAF-A15A-70FF2EB3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124A9-0CD6-4ED1-990A-D43EF81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F9290-1F59-4EB7-8D59-67629EE4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A76F-6DCD-441D-923B-47EC801D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246B3-081E-4538-9211-52BD52A1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892C1-0741-4576-8223-0022341D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604-48D4-4F61-8309-E2B9E7ED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015A5-32C1-47B0-8632-B6B5DA6A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C087-F3EE-4805-A55A-6E27D78D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21A57-2418-454A-83FD-68A8E4E6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67C59-3561-4411-96E4-251F8FBE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BDD3-8F32-41B8-A9A4-5EBD99A0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A5CC6-5BD9-4DC0-879A-228E0FDD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86A74-E75B-4546-8E31-F3D0B73C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330DA-1978-4954-A159-B2F6684F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263C9-D566-46A2-A6A9-5B87FD81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41A59-9559-433C-B258-FC710CEA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6DD-39C9-4D02-A2D1-E5CFF17F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93F8C-B64F-44F2-A703-09C5B4F7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45042-C589-4E19-88F1-F97F126A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D86E1-D9D0-4B8E-AAA4-FAAD3296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5741E-BE15-47FF-BAC7-95A83C6B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5851B-5E95-4AFE-AAAE-9832FF31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8861A-A680-4E97-A38E-E8A28AA5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A3FC6-C668-47A8-9455-EC430870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4E639-2022-4FE2-8036-20A66E77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A0E45-AFA5-444D-87B8-E8766659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2932D-9321-4ADA-8AF8-E17EB5E4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362-E526-408F-9D0B-95490B8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A03A5-205B-4FA9-89E4-C7B0890B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63BB1-31C7-40F8-86D9-2AC6FA62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3C18D-6352-491E-9C66-35F9E845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86D29-EA07-434C-9F5F-72F7D0E3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95356-E57D-41E9-BFC4-AA2DF6F2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5B7C-B933-4CA4-96BD-A0DEADC0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71E6-FE1B-465D-8F69-63E87C2E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A8F0E-41B4-4D44-A076-DCD2FBC7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00A35-3932-49A0-B9D2-842D18B6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71395-31BE-4716-9B78-1BD6CADE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274-EDC2-45BF-8B0C-32E7164B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26016-11D2-4F3E-B15C-727384E6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0FCE4-AABF-4794-B7FF-C555B06D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B9945-691D-4DFB-A914-40218BE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F1EE9-126E-4E85-8537-F73D6795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4B078-AB15-4284-B88E-D75AB0A1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D0AFD-39C4-4329-8A7A-99CCB8B4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3B7CD-F7AB-4BD4-8A3C-6D8594ED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CAC53-BB29-45EA-BB74-652B90D1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FEE85-95F6-4DF4-ACAB-AF805B7B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3A518-2042-4468-BFC7-D0B0412B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907-B6E6-400A-A0CE-C4A53E67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DDB69-7C5A-45CC-83E0-BCE69462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461BA-3ED0-4941-ABAE-4AE1FADD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7B5F9-B583-41ED-AD88-B11FBDF8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9F32A-8BA2-4782-99EE-D7690B5E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CEC31-3117-4875-B6A3-6840275F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79516-5788-4C59-B45D-083765E3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86CF-60C3-4FDA-A549-A6B8EAE9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7C104-3A85-409E-BB27-855EBCC0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F46B4-D39A-42AD-A214-DF9CF8EC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337A8-231C-4C86-A9E5-A6F2EA2C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7800" y="6244920"/>
            <a:ext cx="2697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47760" y="6244920"/>
            <a:ext cx="3660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82160" y="6244920"/>
            <a:ext cx="2697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2043-04F1-4BF3-8845-4F943F5143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848D-54EF-4694-9700-3119B48467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2470-F1D2-4465-BAC9-DE469A8EE5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5378-6D5C-4472-9AF7-F1984FEF35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3A9B-4F20-453D-9652-D40CAC406A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E8A4-8C4F-49F8-8EAD-07CD5C1BCB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B430-AF90-4655-9CF7-9565281D22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9180360" y="6351480"/>
            <a:ext cx="7747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字体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t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77800" y="6244920"/>
            <a:ext cx="2697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947760" y="6244920"/>
            <a:ext cx="3660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282160" y="6244920"/>
            <a:ext cx="2697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34BE-1FFB-42C0-ACF3-8BB7D19A8A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2395-DF7C-4B38-8396-F73294E959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13BE-FDE5-4000-8F7F-AB71E72D30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626E-DEA2-438C-839A-B8FAA60020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01EE-3679-47D5-B633-38F1D10281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FD92-1185-4A7F-A6D1-72332DE682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57780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947760" y="6356520"/>
            <a:ext cx="366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8282160" y="6356520"/>
            <a:ext cx="269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EA8D-1C2F-4E07-9077-53B1255D3C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7" descr="截图00"/>
          <p:cNvPicPr/>
          <p:nvPr/>
        </p:nvPicPr>
        <p:blipFill>
          <a:blip r:embed="rId1"/>
          <a:stretch/>
        </p:blipFill>
        <p:spPr>
          <a:xfrm>
            <a:off x="0" y="12600"/>
            <a:ext cx="11557080" cy="6845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1401411111355338"/>
          <p:cNvPicPr/>
          <p:nvPr/>
        </p:nvPicPr>
        <p:blipFill>
          <a:blip r:embed="rId2"/>
          <a:stretch/>
        </p:blipFill>
        <p:spPr>
          <a:xfrm>
            <a:off x="1025640" y="620640"/>
            <a:ext cx="11023560" cy="1244520"/>
          </a:xfrm>
          <a:prstGeom prst="rect">
            <a:avLst/>
          </a:prstGeom>
          <a:ln w="0">
            <a:noFill/>
          </a:ln>
        </p:spPr>
      </p:pic>
      <p:pic>
        <p:nvPicPr>
          <p:cNvPr id="579" name="http3822.wav" descr=""/>
          <p:cNvPicPr/>
          <p:nvPr/>
        </p:nvPicPr>
        <p:blipFill>
          <a:blip r:embed="rId3"/>
          <a:stretch/>
        </p:blipFill>
        <p:spPr>
          <a:xfrm>
            <a:off x="56260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882720" y="4653000"/>
            <a:ext cx="98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涂洒雄黄酒是端午节习俗之一。在端午节，将雄黄掺在酒里制成雄黄酒，甩洒在居室的墙角和床下，具有较强的灭蚊和杀虫作用。由于雄黄能从皮肤吸收，外用亦不宜大面积涂擦，以防中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05" name="Picture 4" descr="20140529135647663_small"/>
          <p:cNvPicPr/>
          <p:nvPr/>
        </p:nvPicPr>
        <p:blipFill>
          <a:blip r:embed="rId1"/>
          <a:stretch/>
        </p:blipFill>
        <p:spPr>
          <a:xfrm>
            <a:off x="0" y="0"/>
            <a:ext cx="1155708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3114720" y="3284640"/>
            <a:ext cx="70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喝五加酒</a:t>
            </a:r>
            <a:r>
              <a:rPr b="1" i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祛湿避邪</a:t>
            </a: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5057640" y="54936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五月初五采五加，酿五加酒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是民间的习俗。五加即五加皮，气香味苦，五加树皮有奇香，可滋补肝肾壮筋骨。民间认为喝了五加酒，可以避难避邪。五加皮的药用主要为治疝气、腹痛、男子阳痿、小便余沥、女人腰脊痛、两脚疼等。地处潮湿的区域，特别适合在端午节喝五加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4" descr="imagesCA8ERIQU"/>
          <p:cNvPicPr/>
          <p:nvPr/>
        </p:nvPicPr>
        <p:blipFill>
          <a:blip r:embed="rId1"/>
          <a:stretch/>
        </p:blipFill>
        <p:spPr>
          <a:xfrm>
            <a:off x="0" y="-4680"/>
            <a:ext cx="11557080" cy="686268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2825640" y="3132000"/>
            <a:ext cx="62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挂香囊</a:t>
            </a:r>
            <a:r>
              <a:rPr b="1" i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散风驱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201451214432886"/>
          <p:cNvPicPr/>
          <p:nvPr/>
        </p:nvPicPr>
        <p:blipFill>
          <a:blip r:embed="rId1"/>
          <a:stretch/>
        </p:blipFill>
        <p:spPr>
          <a:xfrm>
            <a:off x="0" y="-1440"/>
            <a:ext cx="11557080" cy="68594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5"/>
          <p:cNvSpPr/>
          <p:nvPr/>
        </p:nvSpPr>
        <p:spPr>
          <a:xfrm>
            <a:off x="522360" y="4724280"/>
            <a:ext cx="105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国很多地方有端午节挂香囊的习俗，也是一种预防传染病的方法。自制端午香囊用到的中药有苍术、藿香、吴茱萸、艾叶、肉桂、砂仁、白芷，每味各两克，另外再加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克丁香。将这几味中药研细，然后放在布袋中，缝合好。可以佩戴在胸前、腰际或肚脐处，也可以把香囊挂在门口、室内或车内。这几味中药，中医认为有散风驱寒、健脾和胃、理气止痛、通九窍的功能，从而起到防病的作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5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1155708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Picture3"/>
          <p:cNvPicPr/>
          <p:nvPr/>
        </p:nvPicPr>
        <p:blipFill>
          <a:blip r:embed="rId2"/>
          <a:stretch/>
        </p:blipFill>
        <p:spPr>
          <a:xfrm>
            <a:off x="0" y="836640"/>
            <a:ext cx="11574360" cy="360036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200" y="2133360"/>
            <a:ext cx="5915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华文隶书"/>
                <a:ea typeface="华文隶书"/>
              </a:rPr>
              <a:t>谢谢欣赏</a:t>
            </a:r>
            <a:br>
              <a:rPr sz="6600"/>
            </a:br>
            <a:endParaRPr b="0" lang="en-US" sz="8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1138320" y="5516640"/>
            <a:ext cx="10418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Picture 9" descr="快乐健康"/>
          <p:cNvPicPr/>
          <p:nvPr/>
        </p:nvPicPr>
        <p:blipFill>
          <a:blip r:embed="rId3"/>
          <a:stretch/>
        </p:blipFill>
        <p:spPr>
          <a:xfrm>
            <a:off x="955800" y="4869000"/>
            <a:ext cx="4913280" cy="11779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0" descr="挥手"/>
          <p:cNvPicPr/>
          <p:nvPr/>
        </p:nvPicPr>
        <p:blipFill>
          <a:blip r:embed="rId4"/>
          <a:stretch/>
        </p:blipFill>
        <p:spPr>
          <a:xfrm>
            <a:off x="7415280" y="2852640"/>
            <a:ext cx="3009960" cy="19051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1" descr="再见拜拜"/>
          <p:cNvPicPr/>
          <p:nvPr/>
        </p:nvPicPr>
        <p:blipFill>
          <a:blip r:embed="rId5"/>
          <a:stretch/>
        </p:blipFill>
        <p:spPr>
          <a:xfrm>
            <a:off x="7962840" y="1484280"/>
            <a:ext cx="2166840" cy="9525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4"/>
          <p:cNvSpPr/>
          <p:nvPr/>
        </p:nvSpPr>
        <p:spPr>
          <a:xfrm>
            <a:off x="1955880" y="4437000"/>
            <a:ext cx="81597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字体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ti/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0" y="2998800"/>
            <a:ext cx="1155708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6" name="图片 9" descr=""/>
          <p:cNvPicPr/>
          <p:nvPr/>
        </p:nvPicPr>
        <p:blipFill>
          <a:blip r:embed="rId10"/>
          <a:stretch/>
        </p:blipFill>
        <p:spPr>
          <a:xfrm>
            <a:off x="1036800" y="316080"/>
            <a:ext cx="9747000" cy="26812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3"/>
          <p:cNvSpPr/>
          <p:nvPr/>
        </p:nvSpPr>
        <p:spPr>
          <a:xfrm>
            <a:off x="592200" y="3097080"/>
            <a:ext cx="518616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5778360" y="3097080"/>
            <a:ext cx="51865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10" descr="png-0644"/>
          <p:cNvPicPr/>
          <p:nvPr/>
        </p:nvPicPr>
        <p:blipFill>
          <a:blip r:embed="rId11"/>
          <a:stretch/>
        </p:blipFill>
        <p:spPr>
          <a:xfrm>
            <a:off x="3684600" y="3097080"/>
            <a:ext cx="498600" cy="3938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1" descr="png-0652"/>
          <p:cNvPicPr/>
          <p:nvPr/>
        </p:nvPicPr>
        <p:blipFill>
          <a:blip r:embed="rId12"/>
          <a:stretch/>
        </p:blipFill>
        <p:spPr>
          <a:xfrm>
            <a:off x="9142560" y="3097080"/>
            <a:ext cx="4982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5" descr="截图01"/>
          <p:cNvPicPr/>
          <p:nvPr/>
        </p:nvPicPr>
        <p:blipFill>
          <a:blip r:embed="rId1"/>
          <a:stretch/>
        </p:blipFill>
        <p:spPr>
          <a:xfrm>
            <a:off x="0" y="0"/>
            <a:ext cx="1155708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6"/>
          <p:cNvSpPr/>
          <p:nvPr/>
        </p:nvSpPr>
        <p:spPr>
          <a:xfrm>
            <a:off x="449280" y="2781360"/>
            <a:ext cx="792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在中国的传统节日中，端午节是一个重要的节日。在这几天，人们会在门口挂上菖蒲、蒿草、艾叶驱邪，喝雄黄酒、五加酒，吃粽子，挂香囊，以表达保持健康体魄的美好愿望。在现代人的生活方式里，端午节的一些古老习俗已经慢慢被摒弃，然而事实证明，我们的传统习俗蕴含着很多养生奥秘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85" name="Picture 4" descr="20140529135647978_small"/>
          <p:cNvPicPr/>
          <p:nvPr/>
        </p:nvPicPr>
        <p:blipFill>
          <a:blip r:embed="rId1"/>
          <a:stretch/>
        </p:blipFill>
        <p:spPr>
          <a:xfrm>
            <a:off x="0" y="-1440"/>
            <a:ext cx="11557080" cy="68594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5"/>
          <p:cNvSpPr/>
          <p:nvPr/>
        </p:nvSpPr>
        <p:spPr>
          <a:xfrm>
            <a:off x="1817640" y="2852640"/>
            <a:ext cx="79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吃粽子</a:t>
            </a:r>
            <a:r>
              <a:rPr b="1" i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清热除烦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4915080" y="54936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中医认为，糯米具有益气健脾、开胃消食的作用。用来包裹粽子的粽叶更有讲究，北方大都用芦苇叶，南方多用竹叶或荷叶，这些叶子都有很好的药用功能。如：苇叶可以清热生津、除烦止渴；竹叶可以清热除烦、利尿排毒；荷叶能清热利湿、和胃宁神。总的来说，粽子有清热除烦、助脾开胃的作用，特别适合初夏食用。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进食时须注意，制作粽子的原料糯米黏性较大，过量进食容易引起消化不良，所以不可贪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0" name="Picture 4" descr="20140529133513808_small"/>
          <p:cNvPicPr/>
          <p:nvPr/>
        </p:nvPicPr>
        <p:blipFill>
          <a:blip r:embed="rId1"/>
          <a:stretch/>
        </p:blipFill>
        <p:spPr>
          <a:xfrm>
            <a:off x="0" y="20520"/>
            <a:ext cx="11557080" cy="68374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3041640" y="2781360"/>
            <a:ext cx="76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艾叶菖蒲</a:t>
            </a:r>
            <a:r>
              <a:rPr b="1" i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驱毒除瘟</a:t>
            </a: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809640" y="765000"/>
            <a:ext cx="102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谚说：“清明插柳，端午插艾。”在端午节，家家户户都要将菖蒲、艾条插于门楣，悬于堂中。艾叶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叫艾蒿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一味芳香化浊的中药，有较强的驱毒除瘟作用。现代研究表明，悬挂艾叶及燃烧艾叶的确有杀菌消毒、预防瘟疫流行的作用。艾叶、菖蒲还有驱蚊的作用，慢慢燃烧艾叶驱蚊效果更好。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809640" y="620640"/>
            <a:ext cx="101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代人已经很少在家门口挂艾叶、菖蒲等草本植物。对于这个问题，专家说，可以采取烟熏和喷气雾剂的方法来解决。普通家庭可以选择在端午前后把门窗紧闭，然后用菖蒲、艾叶、雄黄合剂烟熏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~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以上，这样可起到杀菌作用。另外，还可以到商店购买杀虫驱蚊的气雾剂来达到灭害虫的目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Picture 4" descr="20120616152238938"/>
          <p:cNvPicPr/>
          <p:nvPr/>
        </p:nvPicPr>
        <p:blipFill>
          <a:blip r:embed="rId1"/>
          <a:stretch/>
        </p:blipFill>
        <p:spPr>
          <a:xfrm>
            <a:off x="0" y="-39600"/>
            <a:ext cx="11557080" cy="68976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2682720" y="3205080"/>
            <a:ext cx="825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涂雄黄酒</a:t>
            </a:r>
            <a:r>
              <a:rPr b="1" i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杀虫解毒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809640" y="76032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端午前后，我国南方很多地区都已步入梅雨季节，天气条件有利于蚊蝇、害虫的活动和繁殖。而雄黄是一味解毒、杀虫的中药，内含有毒的砷盐成分，害虫闻之食之即会中毒，人涂之可以避毒。也有很多人在端午节饮雄黄酒，但由于雄黄的主要成分是二硫化砷，遇热后可分解为毒性很强的砒霜，因此不建议内服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5T06:38:51Z</dcterms:created>
  <dc:creator>第一PPT</dc:creator>
  <dc:description/>
  <cp:keywords>www.1ppt.com</cp:keywords>
  <dc:language>en-US</dc:language>
  <cp:lastModifiedBy>Windows User</cp:lastModifiedBy>
  <dcterms:modified xsi:type="dcterms:W3CDTF">2019-06-01T09:34:22Z</dcterms:modified>
  <cp:revision>14</cp:revision>
  <dc:subject/>
  <dc:title>端午节</dc:title>
</cp:coreProperties>
</file>