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1D7-7279-4A59-9A4D-0CD8C8CF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865-E117-49F3-B0D4-B64F6BA2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96B14-D128-49F1-991A-AFC3EB51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038A6-5BC1-437A-8D17-471444CD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F9B37-5748-401C-AA11-825F4D07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16B75-33D8-4BD8-AAE0-3CD4D71E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3F243-A4DF-4085-990D-E6706267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58922-4D76-45D7-BAC5-C8ED89E5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0B162-6C44-402C-BAC6-BCD1DAD8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7854F-E228-44F5-81C4-B4F69502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34640-FBA9-4630-9EB0-07B734B1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97AC0-27C3-4C45-A5AE-3D2BAD31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444-6B22-42A6-9B0B-E0150DDC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0C5E1-EC3C-489C-B687-E0696CED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532A7-85D8-432E-95DB-B75F7622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56A3B-A309-4EC3-B78B-70CD88D9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1FEF3-59F2-41EE-A4D5-B45E8EA8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1CF6F-93FB-48FB-9154-16437683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7ECC0-3ED9-45F7-A4ED-8BC9BF76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C6371-11EC-4EF7-9977-7D58108F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EFF42-4CDC-4740-B9F3-8F964A65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CA4ED-1019-478B-939E-3367DCC8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0106C-31FC-4A12-8993-2263B41B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2AB-A212-475B-BDA8-0DBAF498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7D496-251F-4996-BF89-9E773FE1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6689D-60CA-420E-91F9-CAE31DCE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5779F-1653-4313-B10F-D133E192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66438-2047-45CE-A23F-ABB600D3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44A49-4F5A-4581-89CD-6118ADFD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EF11B-AE89-4ACD-9C85-FDFCD26A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A96EB-4907-48BA-BC07-E2EE6302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498E8-A344-4249-A7C9-CD977E44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7B622-B500-40B5-8DD6-56EE853E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03CDE-333B-440D-B803-D27D0269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92B8-B2C7-4BA7-B0E5-774A84A0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DF6F5-E7DB-498C-8C2D-3B600D26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BB525-F285-4A47-A0BE-8D42D409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1C4FF-4E13-4A58-AF95-EF51DC0D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C3724-5B5E-42C7-91AB-DE8F40F6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B7297-9061-4835-8827-DA8056A2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B5F0D-F131-4A9B-82CB-3FDC52B9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05CEB-AD60-4423-B69C-D3E52CB1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E0157-65FC-4452-9755-6800EE64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CF23B-6E46-485E-875F-23AB76CE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ACC29-E8A1-4DFF-B325-87F75F31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8883-BAE9-4DAD-8C12-B67BDB06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39861-596F-40AC-9F6C-926731D4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39DCD-4F14-409C-97B9-52BFBA20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0906A-1DA5-4CEF-9727-92068598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295F7-A0F4-476E-9C0A-6AFC12CD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3F7AB-2D65-4DD3-B7DC-F53F5FB4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367DB-F37B-4466-AF4A-26A9C78C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77872-2A44-4E87-BD3F-380078B5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5AD64-2CC2-4E50-8711-B25ADD99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1C381-96A9-46C7-86E2-9098F966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DD678-79D0-428E-BC13-9A2DB619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9675-616D-4E35-A1E4-D1FD3244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3F506-6176-4BB9-8E86-F0BFA838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CC8B6-771F-4E78-B13B-E5539011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F3AE2-F809-4F9D-990A-58D9994F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D8BD8-B423-4929-958F-166567ED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E204B-FC10-4597-BD8E-475D4099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31AD4-7D89-496B-833E-92E61066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18CCD-96FA-4AF7-AB7D-09AE6D2E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7F667-D177-4FA5-BB1A-9CB7D1A0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6FB5B-92A8-4E4B-99FC-D94F7F02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C8633-DE6A-40D4-9AB6-D5EBD096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A3F2-645D-48C5-A6A9-BC809F5C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D97F1-99A2-464E-A541-510776BB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57817-F441-4F70-8BDD-7C881B4E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C3063-BC71-4F09-A2AA-1BF263CA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71334-D7B5-4EC7-BE40-14E06FE6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1DFBD-EC94-41EB-9BE6-7E0C7E9D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6FC4B-2844-42D0-82CE-998F33C2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96BC8-5E88-45BA-AE82-BA0ADC7D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AF1BB-524A-48F9-98DE-C8DF59A1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7FB31-A9A2-4CEB-89E7-34F25C52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D7FC-480A-4373-B930-C8B0DE75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D6F4-C01A-4F20-ABF5-EF72B0BC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ACB7-735A-404E-B60E-3DD36081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7DD-71EF-42BB-B4BD-A27D67C7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A987-D3FC-4C5D-919A-DC66DF56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CF65-775B-473E-A31B-2EE8E934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DAAD-F4AC-4A95-9C9B-E6C5F79F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9471-F134-48FF-A49E-EFB0818A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5104-E70E-4363-B4CC-37B54E33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B940E-DD5B-4B65-8806-3839BE88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61B73-478C-4A8C-A419-29C66567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AFB9-AB66-416C-B5CF-5A9C0305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5E24-A0F7-42AC-976E-2072B05A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69506-B750-4159-9895-5793A9BF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6C1-D5C6-4FC3-B02F-36F820E0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76069-D817-4692-9D5C-78D8C1DD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D49D1-BDC4-4A2C-9429-73781D19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B9067-BA2B-4B34-95BC-724190B6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96F50-5AFC-45B4-A3BB-DFAF130C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07FF-6742-409F-BC1E-7B00D4F7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9C76-9001-4731-A90B-7E344F26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5611-0DA5-4199-B2F4-F316F166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95FE6-4B0E-4FE4-82CD-4D8D6825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A0493-7AC0-46BF-9CF3-B44D71D9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722D4-BE86-4196-9FF7-5E832F6F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5BA-CF6A-49E2-AF9B-BA114DE7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BB1A0-76A4-43B5-AFD6-D725F7BD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BC9AC-881E-42B3-A13D-1BFFEB34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D6444-AF0F-4578-8661-7C74F2B0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91219-63C5-4DFA-B221-894E3D1C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C2011-A124-4B8F-B140-76C445B2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FFE46-18A4-49EB-9293-9F57A0CB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11BE5-B5BB-476E-BD4D-9C0C738D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5C5D5-16C8-4071-827D-E7082575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25EAD-CCDC-43FB-A327-E3ADD3CD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43C5D-84BE-4EBC-AD55-B5FB118D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5F7-AC2B-475F-8221-837C78C7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48F36-1ADD-4A11-A148-75CA4CF0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B47EF-DCC2-438D-BB10-F1EA9122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B34A1-9D1C-4D10-8705-E97E724C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0E7EE-021F-4A85-851E-ADED1D54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5A8DC-A8B7-4583-A411-47D263BE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BEB85-021B-4A8D-8C2E-9481CE51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E4C14-CFD4-4C8A-BF04-B0928C2F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65187-BA67-428F-99D6-56CA14F6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4DB77-69B1-4F97-A0FC-4F42E261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8F838-9002-43F3-8D69-0149C425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8B99-1883-444F-B7AA-02E2EFD2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DB114-0257-4A6A-A5D1-246A7DF6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0B005-25E3-4280-BAA5-A8CDEFB1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B50D4-28C0-469D-90A9-B99F7CC1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F6E30-6BFF-4BC3-98D4-CE623DE4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8308E-B3DC-4DA5-8954-8A3B937F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24228-B168-4C5C-8D83-AEB12685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3AECA-C54D-4087-8F99-4B5B7D1A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1C59D-B9C6-4A84-999A-583F8AEC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83162-D02B-4DA2-BB91-1AEF68FE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6F916-C448-4328-A8FA-3FC9A76F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C49-9ADF-45A5-9D01-C2268C29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F7B5A-B8F3-4816-A7C5-D4A760E0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1D053-98BE-48BA-B61D-986760F9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252C3-CB90-4A8E-BBEA-1FFA7EC0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26BD9-1B54-4EC4-8000-5DF66387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9DF61-7777-4F2A-A938-E972DF3D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5F800-E17B-404F-8DA3-7A9EB0F4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2C1BE-B325-4BD6-9208-FE5E1A1B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C2B0A-FA2B-4FA6-83DE-CF439AA3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2B911-2582-4366-BA39-F8ABCCC5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DAA77-A534-465C-A608-A13BAD2A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973-44DC-4704-8797-5FCF7D1E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F0E50-4698-4D9D-96CC-AEAA19FC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EDE04-34E9-4ED3-A43B-5342BDA8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57B8B-7AD1-4F2D-9EEE-C5A57BC1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805C8-3C4D-49C7-8854-53D03FDD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662FD-A249-4674-963F-170E01FE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DB530-37EB-4F36-89BF-5A6E7EC9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27C3D-CF45-44D2-B92D-5D996D7C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96A88-F5A0-4FAD-A97E-C9BDDE3D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662BA-1B6F-4382-8441-1F523C40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42A81-6BE4-4543-8EE5-15C4694D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04F-7734-4356-8977-82D0AB39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FB8E2-DEED-4125-8B6E-C62B19E3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52731-80D8-4E16-8CEA-98B585BD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406A9-D496-4EA0-A05F-FC6F6892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9A034-476E-48DB-A724-0FA35EDC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6CF6D-CD94-4ED8-B8E1-BC62B69A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981D9-7041-40DD-B0D6-2EFF12D1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1C246-5193-48D1-B104-F4B6B942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202CC-73EC-420F-89D4-3B38C169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EC605-444E-4EC1-B367-B780DC9C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01115-A15D-4418-AF09-DB2D9E20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A6FA-79C4-4398-8496-F45EAEDD07F9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0C39-FB38-4941-9781-2737E3528CD6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6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1720" indent="-214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00120" indent="-2142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4928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DA8F-250F-4FB8-8F3D-74C0E9A9E8FD}" type="datetime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74760" y="5571720"/>
            <a:ext cx="284940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012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4A3B-EAD6-411C-A0ED-9EDCEE2B3B03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6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1720" indent="-214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00120" indent="-2142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4928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6389-E534-4965-9B61-890E6BACDC22}" type="datetime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74760" y="5571720"/>
            <a:ext cx="284940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012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5B92-9E25-4F2C-AB47-F13103ECF90E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6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1720" indent="-214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00120" indent="-2142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4928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4FB7-D5F5-4666-B713-B5D141C1240A}" type="datetime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74760" y="5571720"/>
            <a:ext cx="284940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012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5F97-F93B-409F-B69A-C98B02E817D3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6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1720" indent="-214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00120" indent="-2142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4928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ED69-C532-4630-A9A1-5FB58B6B52AE}" type="datetime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74760" y="5571720"/>
            <a:ext cx="284940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012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AE41-88B9-4630-B303-FE052B36029E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6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1720" indent="-214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00120" indent="-2142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4928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2B90-22EF-44EE-82CB-67E9877A82EA}" type="datetime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074760" y="5571720"/>
            <a:ext cx="284940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45012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90DE-C1F2-4D42-BF36-361A6574285C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6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1720" indent="-214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00120" indent="-2142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4928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fld id="{93170004-375B-4A75-B4DB-441E11792D84}" type="datetime">
              <a:rPr b="0" lang="zh-CN" sz="11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571720"/>
            <a:ext cx="284940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fld id="{64658BF9-69DB-4DD3-B853-3D50C5232D40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BE52-E4EB-4D92-8A29-EC03548265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1489-9416-4AF6-B659-EA95B37BAA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6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1720" indent="-214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00120" indent="-2142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4928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5BE6-6276-4ED1-96CC-9DD08D8DB295}" type="datetime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74760" y="5571720"/>
            <a:ext cx="284940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012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DE12-2C0C-44FE-AEA4-2331686D9B9C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6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1720" indent="-214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00120" indent="-2142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4928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E926-7C23-4983-9E29-C695BF73F2BC}" type="datetime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74760" y="5571720"/>
            <a:ext cx="284940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012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9156-6AB6-43FD-BF82-D90E75F06D77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6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1720" indent="-214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00120" indent="-2142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4928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5744-6C50-45F2-89FE-64E6E880C0E6}" type="datetime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74760" y="5571720"/>
            <a:ext cx="284940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012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D8CC-CF4D-4594-B47A-49EE1132D018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6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1720" indent="-214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00120" indent="-2142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4928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5BE2-8291-46C7-9313-7E9428C3A249}" type="datetime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74760" y="5571720"/>
            <a:ext cx="284940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012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8B5F-F5F5-476E-A996-399FE16CC658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6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1720" indent="-214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00120" indent="-2142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4928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D7FD-691E-45FF-8F6E-02DC4EE4A461}" type="datetime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74760" y="5571720"/>
            <a:ext cx="284940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012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5100-B6D6-49FC-B501-088A99481ED1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6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1720" indent="-214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00120" indent="-2142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2888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4928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4564-352F-47E4-A1BC-2A001E9BBE39}" type="datetime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74760" y="5571720"/>
            <a:ext cx="284940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012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8439-7F7C-4C3C-B3D8-AE8903D0CD0E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2"/>
          <p:cNvSpPr/>
          <p:nvPr/>
        </p:nvSpPr>
        <p:spPr>
          <a:xfrm>
            <a:off x="790560" y="5094360"/>
            <a:ext cx="230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wg_blurred_backgrounds_4"/>
          <p:cNvPicPr/>
          <p:nvPr/>
        </p:nvPicPr>
        <p:blipFill>
          <a:blip r:embed="rId2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迷离黄纯色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板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259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wg_blurred_backgrounds_4"/>
          <p:cNvPicPr/>
          <p:nvPr/>
        </p:nvPicPr>
        <p:blipFill>
          <a:blip r:embed="rId1"/>
          <a:srcRect l="0" t="0" r="0" b="79730"/>
          <a:stretch/>
        </p:blipFill>
        <p:spPr>
          <a:xfrm>
            <a:off x="0" y="4807080"/>
            <a:ext cx="8999640" cy="12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836360" y="240840"/>
            <a:ext cx="6713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836360" y="1403280"/>
            <a:ext cx="6713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wg_blurred_backgrounds_4"/>
          <p:cNvPicPr/>
          <p:nvPr/>
        </p:nvPicPr>
        <p:blipFill>
          <a:blip r:embed="rId1"/>
          <a:srcRect l="53206" t="0" r="29415" b="0"/>
          <a:stretch/>
        </p:blipFill>
        <p:spPr>
          <a:xfrm>
            <a:off x="0" y="3240"/>
            <a:ext cx="15667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 rot="16200000">
            <a:off x="55440" y="2945880"/>
            <a:ext cx="27543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"/>
          <p:cNvSpPr/>
          <p:nvPr/>
        </p:nvSpPr>
        <p:spPr>
          <a:xfrm rot="16200000">
            <a:off x="55440" y="2945880"/>
            <a:ext cx="27543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49200" tIns="0" bIns="0" anchor="t">
            <a:noAutofit/>
          </a:bodyPr>
          <a:p>
            <a:pPr algn="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587600" y="1725480"/>
            <a:ext cx="1538280" cy="2754360"/>
          </a:xfrm>
          <a:prstGeom prst="rect">
            <a:avLst/>
          </a:prstGeom>
          <a:solidFill>
            <a:srgbClr val="b793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1587600" y="1725480"/>
            <a:ext cx="1538280" cy="27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5360" rIns="405360" tIns="349200" bIns="4053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1278000" y="1317600"/>
            <a:ext cx="617400" cy="617400"/>
          </a:xfrm>
          <a:prstGeom prst="rect">
            <a:avLst/>
          </a:prstGeom>
          <a:solidFill>
            <a:srgbClr val="2a87b2">
              <a:alpha val="7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 rot="16200000">
            <a:off x="2301120" y="2946960"/>
            <a:ext cx="2754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"/>
          <p:cNvSpPr/>
          <p:nvPr/>
        </p:nvSpPr>
        <p:spPr>
          <a:xfrm rot="16200000">
            <a:off x="2301120" y="2946960"/>
            <a:ext cx="2754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49200" tIns="0" bIns="0" anchor="t">
            <a:noAutofit/>
          </a:bodyPr>
          <a:p>
            <a:pPr algn="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3833640" y="1725480"/>
            <a:ext cx="1538640" cy="2754360"/>
          </a:xfrm>
          <a:prstGeom prst="rect">
            <a:avLst/>
          </a:prstGeom>
          <a:solidFill>
            <a:srgbClr val="b793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0"/>
          <p:cNvSpPr/>
          <p:nvPr/>
        </p:nvSpPr>
        <p:spPr>
          <a:xfrm>
            <a:off x="3833640" y="1725480"/>
            <a:ext cx="1538640" cy="27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5360" rIns="405360" tIns="349200" bIns="4053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1"/>
          <p:cNvSpPr/>
          <p:nvPr/>
        </p:nvSpPr>
        <p:spPr>
          <a:xfrm>
            <a:off x="3524400" y="1317600"/>
            <a:ext cx="617400" cy="617400"/>
          </a:xfrm>
          <a:prstGeom prst="rect">
            <a:avLst/>
          </a:prstGeom>
          <a:solidFill>
            <a:srgbClr val="2a87b2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2"/>
          <p:cNvSpPr/>
          <p:nvPr/>
        </p:nvSpPr>
        <p:spPr>
          <a:xfrm rot="16200000">
            <a:off x="4546440" y="2945880"/>
            <a:ext cx="27543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3"/>
          <p:cNvSpPr/>
          <p:nvPr/>
        </p:nvSpPr>
        <p:spPr>
          <a:xfrm rot="16200000">
            <a:off x="4546440" y="2945880"/>
            <a:ext cx="27543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49200" tIns="0" bIns="0" anchor="t">
            <a:noAutofit/>
          </a:bodyPr>
          <a:p>
            <a:pPr algn="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6078600" y="1725480"/>
            <a:ext cx="1539720" cy="2754360"/>
          </a:xfrm>
          <a:prstGeom prst="rect">
            <a:avLst/>
          </a:prstGeom>
          <a:solidFill>
            <a:srgbClr val="b793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5"/>
          <p:cNvSpPr/>
          <p:nvPr/>
        </p:nvSpPr>
        <p:spPr>
          <a:xfrm>
            <a:off x="6078600" y="1725480"/>
            <a:ext cx="1539720" cy="27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5360" rIns="405360" tIns="349200" bIns="4053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6"/>
          <p:cNvSpPr/>
          <p:nvPr/>
        </p:nvSpPr>
        <p:spPr>
          <a:xfrm>
            <a:off x="5770440" y="1317600"/>
            <a:ext cx="617760" cy="617400"/>
          </a:xfrm>
          <a:prstGeom prst="rect">
            <a:avLst/>
          </a:prstGeom>
          <a:solidFill>
            <a:srgbClr val="2a87b2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/>
          <p:cNvSpPr/>
          <p:nvPr/>
        </p:nvSpPr>
        <p:spPr>
          <a:xfrm flipV="1">
            <a:off x="3371760" y="830880"/>
            <a:ext cx="1924200" cy="1176120"/>
          </a:xfrm>
          <a:custGeom>
            <a:avLst/>
            <a:gdLst>
              <a:gd name="textAreaLeft" fmla="*/ 641520 w 1924200"/>
              <a:gd name="textAreaRight" fmla="*/ 1283040 w 1924200"/>
              <a:gd name="textAreaTop" fmla="*/ 392040 h 1176120"/>
              <a:gd name="textAreaBottom" fmla="*/ 78408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99" y="21600"/>
                </a:lnTo>
                <a:lnTo>
                  <a:pt x="108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793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3349800" y="1000080"/>
            <a:ext cx="19238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82440" bIns="82440" anchor="ctr">
            <a:noAutofit/>
          </a:bodyPr>
          <a:p>
            <a:pPr algn="ctr">
              <a:lnSpc>
                <a:spcPct val="9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2a87b2"/>
                </a:solidFill>
                <a:latin typeface="宋体"/>
                <a:ea typeface="微软雅黑"/>
              </a:rPr>
              <a:t>文本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"/>
          <p:cNvSpPr/>
          <p:nvPr/>
        </p:nvSpPr>
        <p:spPr>
          <a:xfrm flipV="1">
            <a:off x="2421000" y="2007720"/>
            <a:ext cx="3846600" cy="1176480"/>
          </a:xfrm>
          <a:custGeom>
            <a:avLst/>
            <a:gdLst>
              <a:gd name="textAreaLeft" fmla="*/ 801360 w 3846600"/>
              <a:gd name="textAreaRight" fmla="*/ 3045240 w 3846600"/>
              <a:gd name="textAreaTop" fmla="*/ 245160 h 1176480"/>
              <a:gd name="textAreaBottom" fmla="*/ 93132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9" y="21600"/>
                </a:lnTo>
                <a:lnTo>
                  <a:pt x="162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793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3067200" y="2009880"/>
            <a:ext cx="25016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82440" bIns="82440" anchor="ctr">
            <a:noAutofit/>
          </a:bodyPr>
          <a:p>
            <a:pPr algn="ctr">
              <a:lnSpc>
                <a:spcPct val="9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2a87b2"/>
                </a:solidFill>
                <a:latin typeface="宋体"/>
                <a:ea typeface="微软雅黑"/>
              </a:rPr>
              <a:t>文本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6"/>
          <p:cNvSpPr/>
          <p:nvPr/>
        </p:nvSpPr>
        <p:spPr>
          <a:xfrm flipV="1">
            <a:off x="1476360" y="3184200"/>
            <a:ext cx="5770440" cy="1176480"/>
          </a:xfrm>
          <a:custGeom>
            <a:avLst/>
            <a:gdLst>
              <a:gd name="textAreaLeft" fmla="*/ 961560 w 5770440"/>
              <a:gd name="textAreaRight" fmla="*/ 4808880 w 5770440"/>
              <a:gd name="textAreaTop" fmla="*/ 195840 h 1176480"/>
              <a:gd name="textAreaBottom" fmla="*/ 98064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599" y="21600"/>
                </a:lnTo>
                <a:lnTo>
                  <a:pt x="180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793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2448000" y="3186000"/>
            <a:ext cx="37526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82440" bIns="82440" anchor="ctr">
            <a:noAutofit/>
          </a:bodyPr>
          <a:p>
            <a:pPr algn="ctr">
              <a:lnSpc>
                <a:spcPct val="9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2a87b2"/>
                </a:solidFill>
                <a:latin typeface="宋体"/>
                <a:ea typeface="微软雅黑"/>
              </a:rPr>
              <a:t>文本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wg_blurred_backgrounds_4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矩形 4"/>
          <p:cNvSpPr/>
          <p:nvPr/>
        </p:nvSpPr>
        <p:spPr>
          <a:xfrm>
            <a:off x="1200240" y="3511440"/>
            <a:ext cx="783576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jieri/     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beijing/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0" y="2003400"/>
            <a:ext cx="8999640" cy="19494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9" descr=""/>
          <p:cNvPicPr/>
          <p:nvPr/>
        </p:nvPicPr>
        <p:blipFill>
          <a:blip r:embed="rId3"/>
          <a:stretch/>
        </p:blipFill>
        <p:spPr>
          <a:xfrm>
            <a:off x="1847880" y="627120"/>
            <a:ext cx="5699160" cy="117936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3"/>
          <p:cNvSpPr/>
          <p:nvPr/>
        </p:nvSpPr>
        <p:spPr>
          <a:xfrm>
            <a:off x="460440" y="2092320"/>
            <a:ext cx="404028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模板中的内容包括，图片，数据，文本的替换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5b8cc1"/>
              </a:buClr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4500720" y="2092320"/>
            <a:ext cx="403848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打包上传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各种形式的付费下载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10" descr="png-0644"/>
          <p:cNvPicPr/>
          <p:nvPr/>
        </p:nvPicPr>
        <p:blipFill>
          <a:blip r:embed="rId4"/>
          <a:stretch/>
        </p:blipFill>
        <p:spPr>
          <a:xfrm>
            <a:off x="3645000" y="2181240"/>
            <a:ext cx="387360" cy="3445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1" descr="png-0652"/>
          <p:cNvPicPr/>
          <p:nvPr/>
        </p:nvPicPr>
        <p:blipFill>
          <a:blip r:embed="rId5"/>
          <a:stretch/>
        </p:blipFill>
        <p:spPr>
          <a:xfrm>
            <a:off x="7524720" y="2181240"/>
            <a:ext cx="387360" cy="3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lenovo</cp:lastModifiedBy>
  <dcterms:modified xsi:type="dcterms:W3CDTF">2013-08-30T14:14:3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2</vt:lpwstr>
  </property>
</Properties>
</file>