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EF6-4A0D-44F8-A4F1-9E9A5B42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65F-15A4-4634-935A-B828990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1AB-5901-4F72-B9F4-9BA56D6C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EBC-FA61-4773-8529-D7768F71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D2E-29C2-4741-B8D3-8D7FD7EC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3DE-45E5-4BA4-BC36-9C1F55F0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A20-BB89-495E-9663-F894E93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6F0-CE9D-41DA-84F3-2C70049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48F-F2B6-42B1-B577-3997D970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803-E004-483A-B9EF-2EB6D18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80D-5F38-413E-96CF-23D1C5D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370-09AC-4431-8CD8-7426197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DDD-84C9-4155-BCA9-205109A893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574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科技</a:t>
            </a:r>
            <a:r>
              <a:rPr b="0" lang="en-US" sz="3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PowerPoint</a:t>
            </a:r>
            <a:r>
              <a:rPr b="0" lang="zh-CN" sz="3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05200"/>
            <a:ext cx="6400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3cddd"/>
                </a:solidFill>
                <a:latin typeface="Arial Unicode MS"/>
                <a:ea typeface="Arial Unicode MS"/>
              </a:rPr>
              <a:t>第一</a:t>
            </a:r>
            <a:r>
              <a:rPr b="0" lang="en-US" sz="2400" spc="-1" strike="noStrike">
                <a:solidFill>
                  <a:srgbClr val="93cddd"/>
                </a:solidFill>
                <a:latin typeface="Arial Unicode MS"/>
                <a:ea typeface="Arial Unicode MS"/>
              </a:rPr>
              <a:t>PPT  www.1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1220760" y="4005360"/>
            <a:ext cx="7959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www.1ppt.com/excel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0" y="2286000"/>
            <a:ext cx="9144000" cy="22226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5"/>
          <a:stretch/>
        </p:blipFill>
        <p:spPr>
          <a:xfrm>
            <a:off x="1878120" y="714240"/>
            <a:ext cx="5789520" cy="1346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png-0644"/>
          <p:cNvPicPr/>
          <p:nvPr/>
        </p:nvPicPr>
        <p:blipFill>
          <a:blip r:embed="rId6"/>
          <a:stretch/>
        </p:blipFill>
        <p:spPr>
          <a:xfrm>
            <a:off x="3703680" y="24876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png-0652"/>
          <p:cNvPicPr/>
          <p:nvPr/>
        </p:nvPicPr>
        <p:blipFill>
          <a:blip r:embed="rId7"/>
          <a:stretch/>
        </p:blipFill>
        <p:spPr>
          <a:xfrm>
            <a:off x="7645320" y="24876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07:52:32Z</dcterms:created>
  <dc:creator>微软中国</dc:creator>
  <dc:description/>
  <dc:language>en-US</dc:language>
  <cp:lastModifiedBy>lenovo</cp:lastModifiedBy>
  <dcterms:modified xsi:type="dcterms:W3CDTF">2013-03-22T16:37:06Z</dcterms:modified>
  <cp:revision>3</cp:revision>
  <dc:subject>Technology</dc:subject>
  <dc:title>PowerPoint 演示文稿</dc:title>
</cp:coreProperties>
</file>